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130A303-988A-48F3-9D66-B6F8FBE05520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1D5953C1-CED8-4B11-B8DF-79F122A0CC9A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77EC92B-1EBD-4F0E-A5C0-A20D0E44546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aching hint:  If the team does not come up with any risks, the coach may lead them in risk identific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k the question:  what could cause us not to meet the project goals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would happen if we failed to achieve this goa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064CF27-4DA7-4169-B688-D47BBFF05E9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5928BDB-89E6-4BEF-BD7A-6557B75B875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8742B52-A54D-47B2-86DC-C2222E00F76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k audien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would prevent a team from achieving a specific goal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at are some of the risks they see in the SecSys study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ganization may have their own risk management proces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029AEA2-DD6F-43DD-9B06-A5C6F790546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6986C9C-BBB3-46A1-AFFE-522A44519A6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D461F30-A798-4A64-B1FA-6038CF0AC52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D3A5F2B-075F-4676-8A9C-BF495F20369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C543406-07CD-4FE4-A428-E5C45028EAE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8789830-6CAC-449F-A60A-6AC33351E71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4D243EE-7C32-440B-91B3-084E7D5A2DA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lk about how long this meeting usually takes : less than an hou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t contex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84DBDBD-0D55-4E39-8ECC-570488B3433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DE798F8-E253-44F7-B8DD-D5DCB0F334B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ample of getting carried away: team member gets run over by a truck is a risk, the team identifies dozens of risks, the team does not identify any risk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nd robin works to involve otherwise passive team memb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7952313-0611-4924-88EE-D7173C88D2B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6BA3B66-1607-4464-9332-8FA322A6E3E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28DF4DAF-4E42-4B48-BF1B-5E1DAEB62CB2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169B84C6-9CE5-4A08-A5C3-008E54E2590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../../Handouts/Student%20CD/Other%20Material/Risk%20Taxonomy.pdf" TargetMode="External"/><Relationship Id="rId2" Type="http://schemas.openxmlformats.org/officeDocument/2006/relationships/hyperlink" Target="file:///../../../Handouts/Student%20CD/Other%20Material/A%20Taxonomy%20of%20Opertional%20Risks.pd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The Launch Process - Meeting 7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is a Risk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risk is something that may or may not happen to jeopardize a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it is certain to happen, it is an issue not a risk.  Issues should be addressed in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nce risks may or may not occur, they are managed differently than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isk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incipal considerations for risk management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likelihood of a risk occurr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the impact of the risk if it actually occur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ise timely mitigation a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 management is important beca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y risks can be avoi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st of recovering from a realized risk is usually much greater than the cost of avoiding the ris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ight people can be made aware of the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lan that addresses risks is more credib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uidelines for Risk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ve guidelines for risk management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from past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eryone on the team must manage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ust be empowered to manage the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must be reviewed periodical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gnificant risks should have an assigned own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TSP Risk Management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risk management process is defined in two pa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 identification is handled during meeting 7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 tracking is handled during the weekly team mee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isk identification process will be described in this lecture.  Risk tracking will be covered later in this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risk identification process is guided by TSP Launch Meeting 7 Script (LAU7), located in the meeting 7 tab of the launch note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isk Ident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meeting begins with the coach explaining to the team what risk management is and why it is importa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fer to step 3 of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LAU7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ext, the team leader leads the team in identifying risks (consider using these risk taxonomies to help stimulate risk identification; 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Taxonomy-Based Risk Identification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 </a:t>
            </a:r>
            <a:r>
              <a:rPr b="0" lang="en-US" sz="20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A Taxonomy of Operational Risk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.). 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brainstorming method is a good tool to use because it separates the activities of identifying new risks and evaluating them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brainstorms until they cannot identify any more ris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uring brainstorming, the team leader lists each identified risk on the white board or flip char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act Eval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the risks have been identified, the team considers the impact of each risk if it actually occ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mpact on schedule is an effective way to evaluate ri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act on cost and functionality may also be conside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are categorized by impact:  high, medium, or low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determines how to quantify a high, medium, or low impact ri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high-impact risk is one that delays the project schedule significant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ikelihood Eval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each risk is evaluated for impact, the team leader also leads the team in determining the likelihood of the risk occurring, using a scale of high, medium, and low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rds the probability of risk occurrence as high, medium, or low for each risk identifi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ks the team whether risks with a high probability of occurrence are not actually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ks the team whether risks with a low probability of occurrence are not merely worr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le 1"/>
          <p:cNvSpPr/>
          <p:nvPr/>
        </p:nvSpPr>
        <p:spPr>
          <a:xfrm>
            <a:off x="1006560" y="890640"/>
            <a:ext cx="7421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ample - Risks</a:t>
            </a: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56" name="Content Placeholder 7" descr=""/>
          <p:cNvPicPr/>
          <p:nvPr/>
        </p:nvPicPr>
        <p:blipFill>
          <a:blip r:embed="rId1"/>
          <a:stretch/>
        </p:blipFill>
        <p:spPr>
          <a:xfrm>
            <a:off x="1122480" y="1573200"/>
            <a:ext cx="724032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isk Assign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017360" y="1526760"/>
            <a:ext cx="7413480" cy="47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eam members are assigned to track high-priority risks, e.g., H-H, M-H, H-M, or M-M.  Where possible, assign risks to corresponding rol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Low-priority risks generally can be ignore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ven if all risks are not assigned for tracking, they should be recorded, and the team should periodically review them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isks are tracked weekly. 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isk Mitig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er to step 4 of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LAU7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each high-priority near-term risk, briefly discuss possible mitigation a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mitigation action would lessen or alleviate the impact and/or likelihood of occurrence for a ri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adding tasks to mitigate ri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team cannot identify a mitigation action, raise the risk to management and get their advi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what risks are and why managing risks is importa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TSP risk management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common occurrences and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roles of the coach and team leader in meeting 7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ample – Risk Mitig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62" name="Content Placeholder 5" descr=""/>
          <p:cNvPicPr/>
          <p:nvPr/>
        </p:nvPicPr>
        <p:blipFill>
          <a:blip r:embed="rId1"/>
          <a:stretch/>
        </p:blipFill>
        <p:spPr>
          <a:xfrm>
            <a:off x="268200" y="1633680"/>
            <a:ext cx="8551800" cy="41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view of meeting 7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ing 7 exerc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consider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erence materia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Launch Process Meeting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025640" y="1708200"/>
            <a:ext cx="1447560" cy="9907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1.  Establish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roduct 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usiness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25640" y="3005280"/>
            <a:ext cx="144756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2.  Assign role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defin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778120" y="1708200"/>
            <a:ext cx="1447920" cy="9907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4.  Build overal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near-term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778120" y="3005280"/>
            <a:ext cx="144792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5.  Develop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he quality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778120" y="4299120"/>
            <a:ext cx="1447920" cy="99036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6.  Build</a:t>
            </a:r>
            <a:br>
              <a:rPr sz="1200"/>
            </a:b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consolidate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1712880" y="269892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540240" y="269892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3540240" y="399420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2627280" y="2241360"/>
            <a:ext cx="0" cy="32763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2627280" y="2241720"/>
            <a:ext cx="150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4606920" y="1708200"/>
            <a:ext cx="144792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  Condu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sk assess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4606920" y="3005280"/>
            <a:ext cx="144792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8.  Prepar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riefing 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 repor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6512040" y="3005280"/>
            <a:ext cx="144756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5369040" y="269892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7197840" y="269892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 flipV="1">
            <a:off x="4454640" y="2241360"/>
            <a:ext cx="0" cy="32763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4454640" y="224172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3540240" y="551808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V="1">
            <a:off x="3540240" y="528912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Rectangle 26"/>
          <p:cNvSpPr/>
          <p:nvPr/>
        </p:nvSpPr>
        <p:spPr>
          <a:xfrm>
            <a:off x="6512040" y="1708200"/>
            <a:ext cx="1447560" cy="9907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9.  Hol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 flipV="1">
            <a:off x="6359400" y="2241720"/>
            <a:ext cx="0" cy="19792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6359400" y="2241720"/>
            <a:ext cx="1526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 flipH="1">
            <a:off x="5368680" y="4221000"/>
            <a:ext cx="99036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 flipV="1">
            <a:off x="5369040" y="3994200"/>
            <a:ext cx="0" cy="2268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1025640" y="4299120"/>
            <a:ext cx="1447560" cy="99036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3.  Produc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proces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12880" y="399420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 flipV="1">
            <a:off x="1712880" y="528912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 flipH="1">
            <a:off x="1712880" y="551808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4884840" y="4903920"/>
            <a:ext cx="384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TSP team coach guides the team through a defined process to develop its plan and to negotiate that plan with manag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rpose/Rationale for Meeting 7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urpose of meeting 7 i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major project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risks for likelihood and impa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eam members to track high-priority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7 Exerci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ercise purpo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nderstand how launch meeting 7 is conduc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able to identify and classify team risk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able to use the IRTL tab in the TSP tool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cognize issues that might arise and understand how to deal with the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irections (see meeting 7 exercise workbook)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emble into your launch team group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duct launch meeting 7 using script LAU7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lass discussion of how process work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fter the exercise, we will conclude the module with a discussion of coaching considerations from the lecture slid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Consider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17360" y="1579320"/>
            <a:ext cx="78246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volve all team members in the risk identification brainstorming process, round-robin style works well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sk the team not to list typical risks of ordinary living.  Instead, guide them on concentrating on risks that are particularly applicable to the projec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uggest guidance for high/med/low impac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hallenge the team to be pro-active about risks, what can they do to avoid or mitigate it, make them take responsibilit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Get the team to agree on a few high-priority, high-impact risks to present to manag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f issues, not addressed in plan are identified, tasks to address them should be added to the plan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ke sure risks are recorded and assigned to individual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meeting 7, the team identifies and assesses risks to the team meeting its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isks are documented in the team’s plan and each high-priority near-term risk is assigned to a team member for track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lan that addresses risks is more credible with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ference Material</a:t>
            </a: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ationale for risk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risk management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58Z</dcterms:modified>
  <cp:revision>192</cp:revision>
  <dc:subject/>
  <dc:title>No Slide Title</dc:title>
</cp:coreProperties>
</file>